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8004-B12D-4ACA-9DE7-9D342204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E474-4DE8-4AB5-B1AF-4BCC2071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674D-D678-411F-B593-9E2EE815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7517-9871-4693-85E6-9110720C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0850-9FAC-4159-A4CF-EC806492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C159-2770-400E-AA36-F76C6FDF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EE9F-2DB7-4EA7-82FD-2EE3D08C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F493-2080-457B-A256-C6A92D51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810C-16F0-4A6A-8D68-19F76009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999C-9A89-49A6-AFEA-93EE9F3E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45B7-3933-47CD-A914-7503D4B2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CFF3-585B-424E-B420-C68EE82C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F415-CE6B-4B0B-BCAB-22C11EDE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7D66-891D-4A7A-A97F-3B2543D2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2E85-8507-4672-BD3C-331F99DD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20C3-2FC8-4EAE-A99F-49658529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978B-6AEE-4970-B451-79900324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D8F0-C524-46EF-A3D7-BF7C3200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2E503-3DDE-4E22-BE14-383EB25B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8E0B-D2F1-49F9-BD5F-990B0D4D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EEB3-DB85-4BF8-AFDF-A0387006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7304D-CE59-49BE-A57B-6D7C9675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6DFDD-D82E-4AA2-B80D-880E8B46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CD40-721D-448F-B0A7-D8D0471D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762D-832B-48D6-B626-5BEE59C58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4D5B-ACDF-4D39-9311-AE2D375756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3259-676B-4075-A906-A75920F2A5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3:02Z</dcterms:modified>
  <cp:revision>67</cp:revision>
  <dc:subject/>
  <dc:title>CAP Cryptographic Analysis Program</dc:title>
</cp:coreProperties>
</file>